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voltage.wav" ContentType="audio/x-wav"/>
  <Override PartName="/ppt/media/coin.wav" ContentType="audio/x-wav"/>
  <Override PartName="/ppt/media/bomb.wav" ContentType="audio/x-wav"/>
  <Override PartName="/ppt/media/camera.wav" ContentType="audio/x-wav"/>
  <Override PartName="/ppt/media/wind.wav" ContentType="audio/x-wav"/>
  <Override PartName="/ppt/media/image2.jpeg" ContentType="image/jpeg"/>
  <Override PartName="/ppt/media/image3.png" ContentType="image/png"/>
  <Override PartName="/ppt/media/breeze.wav" ContentType="audio/x-wav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716B8-A41E-44B4-BDE9-343A0DDD0D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in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s of immigrants moved to the United States in the late 1800’s &amp; early 1900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tion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 Agains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2 Congress passed Chinese Exclus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all Chinese immigrants were kept out of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1 &amp; 1924 Congress passed laws that lowered  the number of Europeans &amp; As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migrants faced prejudice upon arr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igrants helped the U.S. become one of the richest and fastest-growing countries in the world.  They built railroads, dug mines, and worked i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A00-F19F-4BB2-A504-F67E5EB0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3EF-C965-4C76-8D28-5E12C2DF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72A-9AD6-4819-9022-E1A42617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517-C548-4BFD-84CF-918139FAB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DB1-59B3-4CAB-8277-B7AD5645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FDC1-583B-4451-AEE5-B3A6594E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953-C5D9-48A5-83F8-B3A6F2D0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1B3A-0C14-4665-BC73-5E4ADBCF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C64D-AA6D-4EAF-9814-45DFBC1A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681A-B438-4012-88FD-C618ACFD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D7D8-D15E-47DD-8E53-3FAD6A5F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B8D6-4001-45FC-B23E-09FCD825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4249-5515-4B83-BEB4-9F7C9FA87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psites.net/gotham01/webpages/isaacs/Immigrants%2520seeing%2520Statue.jpg&amp;imgrefurl=http://www.mapsites.net/gotham01/webpages/isaacs/index.htm&amp;h=514&amp;w=640&amp;sz=86&amp;hl=en&amp;start=5&amp;tbnid=-hGJN2xi_QjhTM:&amp;tbnh=110&amp;tbnw=137&amp;prev=/images%3Fq%3Dimmigrants%26svnum%3D10%26hl%3Den%26lr%3D%26sa%3DG" TargetMode="External"/><Relationship Id="rId2" Type="http://schemas.openxmlformats.org/officeDocument/2006/relationships/image" Target="../media/image1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9144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Berlin Sans FB Demi"/>
              </a:rPr>
              <a:t>Immigrants in Amer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Millions of immigrants moved to the United States in the late 1800’s &amp; early 190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mmigrants%2520seeing%2520Statu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762120"/>
            <a:ext cx="2209680" cy="2392200"/>
          </a:xfrm>
          <a:prstGeom prst="rect">
            <a:avLst/>
          </a:prstGeom>
          <a:ln w="0">
            <a:noFill/>
          </a:ln>
        </p:spPr>
      </p:pic>
    </p:spTree>
  </p:cSld>
  <p:transition>
    <p:push dir="l"/>
    <p:sndAc>
      <p:stSnd>
        <p:snd r:embed="rId3" name="voltag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66ff"/>
                </a:solidFill>
                <a:latin typeface="Berlin Sans FB Demi"/>
              </a:rPr>
              <a:t>Immigration S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Berlin Sans FB Demi"/>
              </a:rPr>
              <a:t>Once immigrants arrived in the U.S., they went through immigration stations, such as Ellis Island in New York Harbor.  Government workers questioned them about where they planned to work &amp; live.  Doctors also examined them to make sure they didn’t have any diseases.  Almost all European immigrants were allowed to enter the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1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228600"/>
          <a:ext cx="9144000" cy="629460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471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ff33"/>
                          </a:solidFill>
                          <a:latin typeface="Berlin Sans FB Demi"/>
                        </a:rPr>
                        <a:t>New immigrants arriving at Ellis Island. At Ellis they will be "processed" before they are allowed to continue their journey to find a new hom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Picture 5" descr="Photo of immigrants arriving at Ellis Island"/>
          <p:cNvPicPr/>
          <p:nvPr/>
        </p:nvPicPr>
        <p:blipFill>
          <a:blip r:embed="rId1"/>
          <a:stretch/>
        </p:blipFill>
        <p:spPr>
          <a:xfrm>
            <a:off x="1981080" y="685800"/>
            <a:ext cx="4762800" cy="419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2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growthcenters-big"/>
          <p:cNvPicPr/>
          <p:nvPr/>
        </p:nvPicPr>
        <p:blipFill>
          <a:blip r:embed="rId1"/>
          <a:stretch/>
        </p:blipFill>
        <p:spPr>
          <a:xfrm>
            <a:off x="914400" y="781200"/>
            <a:ext cx="7848720" cy="568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erlin Sans FB Demi"/>
              </a:rPr>
              <a:t>Laws Against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882 Congress passed Chinese Exclus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most all Chinese immigrants were kept out of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1921 &amp; 1924 Congress passed laws that lowered  the number of Europeans &amp; As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Berlin Sans FB Demi"/>
              </a:rPr>
              <a:t>All immigrants faced prejudice upon arr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1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Berlin Sans FB Demi"/>
              </a:rPr>
              <a:t>Immigrants helped the U.S. become one of the richest and fastest-growing countries in the world.  They built railroads, dug mines, and worked in factori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day_without_immigrants"/>
          <p:cNvPicPr/>
          <p:nvPr/>
        </p:nvPicPr>
        <p:blipFill>
          <a:blip r:embed="rId1"/>
          <a:stretch/>
        </p:blipFill>
        <p:spPr>
          <a:xfrm>
            <a:off x="2666880" y="3124080"/>
            <a:ext cx="3581640" cy="34750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im2"/>
          <p:cNvPicPr/>
          <p:nvPr/>
        </p:nvPicPr>
        <p:blipFill>
          <a:blip r:embed="rId1"/>
          <a:stretch/>
        </p:blipFill>
        <p:spPr>
          <a:xfrm>
            <a:off x="762120" y="685800"/>
            <a:ext cx="7772400" cy="5562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16:16:47Z</dcterms:created>
  <dc:creator>Your User Name</dc:creator>
  <dc:description/>
  <dc:language>en-US</dc:language>
  <cp:lastModifiedBy>RomaK</cp:lastModifiedBy>
  <dcterms:modified xsi:type="dcterms:W3CDTF">2015-09-04T09:30:12Z</dcterms:modified>
  <cp:revision>7</cp:revision>
  <dc:subject/>
  <dc:title>Immigrants in America</dc:title>
</cp:coreProperties>
</file>